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B81-95B5-42A9-92F8-EEB25235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BF3-A436-4930-96FD-B0CD4314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AF7-A894-4B28-AD66-E4079DB2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C16-7C64-4FEE-9220-69B227C3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0C5-23F2-4247-89C1-4A99A2C4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653-781C-476A-91F6-87220786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B4C-C4E2-448B-A2F2-064CA241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547-CAF1-410F-BECE-52AD6268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9AEC-C104-4B68-8011-5BF01141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83B-DDF7-4456-BCE7-240C0D35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F87-61BE-4880-9BBE-9342F23B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0BB-1F6E-47B6-A8A4-70C3409A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5A402-673A-4FD9-9A56-B35162589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ston Massc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52578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did it happen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tish solider, a colonist, and the small crowd that gathered around the fight were affec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tish soldier and a colonist started a fight. This wasn't uncommon. A crowd gathered around them. Soldiers fired into the crowd and killed several coloni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id it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ston Massacre took place on March 5, 177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it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ook place in Bos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id this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ides were enemies. They did not like each other. A colonist got into a fight with a Soldier and when the crowd gathered soldiers started firing. Many people died as an outc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7:12:57Z</dcterms:created>
  <dc:creator/>
  <dc:description/>
  <dc:language>en-US</dc:language>
  <cp:lastModifiedBy/>
  <dcterms:modified xsi:type="dcterms:W3CDTF">2011-12-06T17:25:34Z</dcterms:modified>
  <cp:revision>2</cp:revision>
  <dc:subject/>
  <dc:title/>
</cp:coreProperties>
</file>